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C6E-4CD5-4392-B201-D83BCB8C8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BEC-E29C-484F-A557-7062033A89E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285A-7BC6-4690-9399-8F6A1994887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CBD-51E2-40C2-ADB7-B9857E6BF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C54-B5C1-4C1B-906E-55CF8BD3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E5B-808B-43FB-A136-BE0D9BC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75182-2E12-4D49-A1EE-ABF644B9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19A67-3EEC-4846-9D3D-20FA0B8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7B196-098A-49D2-B679-2B1E9AB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7C07-F89E-48B4-8821-5B91A83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D482-CA2E-432D-9F4F-86E6D96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8917-1263-48B8-A323-C3EC8CC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E4ADD-6776-4FDF-8D61-9ECA33F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B6E2-6B11-47CA-8118-FF480835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293E5-DB50-48D4-A42E-DB96251F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D2F0-68B5-4CB2-A3EC-517DC255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539-B14A-4E15-9BF2-6DBEEB9B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2ECFA-CE77-4859-BB40-BC35838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19996-5E01-4DF5-AA47-A18809A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1F920-4D16-4454-A03A-A0EE817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5ED3-D074-4344-A59A-0E58A229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B2F8-128F-4DCE-962E-E53214D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3CE3E-5625-4312-8526-65512A9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44376-9B6B-433F-BFC9-1996D16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C5598-5A14-41F7-9ABE-AB84AF2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2E638-3614-4066-AE5A-BF651A16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88303-54E3-41F1-BBB8-FC79E5F4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E11-4271-4B33-9F7D-1D512A21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C6D40-DEBE-421B-A63D-7A0CC71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92177-51F9-45FB-AA98-5B8847B0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ED86B-4E42-4E77-8FAC-5ED2EB73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E0393-701B-4C44-A586-078991F2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54D1B-348A-4B5B-8BAB-3A53964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43D2-464C-4918-BBFE-A9B0B4C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AC211-D281-488B-ABDE-7A3A4057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2E912-4EAE-4789-A71B-3E9A7CA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076B1-2955-4F4A-BE5F-0B7EE8D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3A39-BEE3-4221-8B05-F4B2D3F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360-CDCB-44F3-9208-A499CC9C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9EC1B-C031-4729-9D96-A86B91E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FBBC3-AC20-4710-A90B-5F51E4BE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4EA1-9A93-4D06-B0A6-E47A57E5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45A4C-E97D-469C-8177-1CEE67DD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08136-3135-4C89-9377-16C4745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BC288-54CA-47D6-8E1A-73E1245B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CF7F2-3F06-4CEB-BBE5-623153D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E2E86-6107-4C0C-B270-0B86AAA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6BBD4-6B96-44C2-B02B-5E8025A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9FF03-4286-49F8-8C36-92E447D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60A-BAF3-4264-9B9D-CD346674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905C-BEDE-4E43-86C7-1411BF3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C82E-DCD0-4E22-8570-DC4462A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BA913-5916-4E89-8180-59731D1D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A1ABB-80E9-4142-A335-54B2C917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4AAB-C4D8-4C6F-B3EA-79F52DCD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E791E-43F8-4F30-8108-3C74CAF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AB626-F8C6-4A1D-85E7-54CF8DC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49DE0-7B6A-4ED3-95E0-6CFDAC4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1844D-DFE4-425C-97FC-D3EB8D4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423C9-5C95-42CC-8F3D-97D2B03C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0BB9-2027-491E-912D-12F642C4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3BDDD-BB9A-45B2-AAED-59BB313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19838-7F2B-40D8-9440-67E3585F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105A8-CAF1-4BEA-A25D-6E8FF19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E202B-03D7-4B69-88F8-7953A45B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C77F3-E103-4F2C-812E-9C8E8E5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37A37-D5E9-4048-8E8F-E18862D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BC7A1-F659-4057-A145-5AD8F6F0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9A783-D2F3-4D64-B143-AFD3A8B1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7E445-1FCF-4BE4-A05A-B42C7A7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63BCE-367E-404C-84C1-AA3F0BBB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B39-9BE8-4D1A-AC89-3701C1C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BC8A4-B63F-4A82-811A-969A94B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BBAFD-C1D3-434E-8464-F5D1AEC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86107-761E-4F26-8AAF-F034501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81939-A74E-4FDB-806C-8989F83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53B38-481A-441F-A11C-0587D27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486F8-01F0-403E-A1A3-16B163D8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55BEE-7793-4064-972C-B9E2C3B5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759B0-9A0F-416C-AD74-BF1ACF2D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FA533-1777-472E-9735-7DBFAC21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7763F-DCAD-4AB0-A07A-EEE06CB2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DF7-DBBA-49A2-BE7B-4B66380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76AF8-77FF-402F-B56B-DD690CA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1AF9E-3DC9-47C7-AC46-48F7E5A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0227F-A202-45E9-9604-7729819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9CDB1-262D-46AA-8202-A56CF73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CC310-E8AD-4291-94A7-C79CAB8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4B193-516C-4634-93BA-C734FBB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6CB70-B1B7-4BF2-84FF-2C70958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04F46-ACCC-43A8-A1A7-A0A03F2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D6D24-AEFA-427A-8F57-B516863D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3C096-4480-47B5-863C-A3136209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C1BB-692B-4DBE-9034-0391CE6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85B8B-D638-4591-92F1-0CFEBA9F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3E398-13AC-42B2-9D6F-5F5D1CB1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5C26D-50DD-4F6B-8ECE-0A4AE2F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60486-A621-46A4-8FC5-AB89716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6863F-CC9F-4E79-A207-2B00494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84326-BF06-427D-8733-9B3F1C1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D7522-B395-4BE3-98AE-0D6B65F5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349EC-1898-4F83-9B51-45CCA7E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3576B-38EE-4758-9968-01B0518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200ED-031F-4A7E-AEB0-2B09382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2E5-AB95-4772-AE4A-2654434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32C32-9F71-468E-B5F6-4A3ED9D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463D2-42B4-4D23-8CE5-7A8298D6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86C6D-E559-4DF0-94FB-9F7B2FCD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BCF66-5509-4F8B-82A3-530414A1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F723E-1E96-4D27-B3C9-D748827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3C003-FF27-4D38-8E83-B6AFC78D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2BA6A-6FFC-43F3-99CD-C4C0E8E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CE279-E5AB-44F4-94B1-A4F0AA2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6EA5F-DBA2-46A3-9F10-DB0E868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A0083-3928-450F-9D4F-F515858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14F-25F4-4765-9AFD-3697B60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C4BC-423F-4252-9C30-C51372C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19358-0245-4389-8C6D-FEF6468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55EE3-6F73-4EBF-839F-DB80F3A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A65CF-C7BE-4FE4-9C45-296477AE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08901-79E6-4E98-9D17-1E25F137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D2893-C001-4D87-B89B-9BA57724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7712-59CD-4C73-944F-F581AA9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D62E-4D94-4426-99BA-C81491F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BD39-8D35-44EE-820E-C782B330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DA4-3FC3-4F9C-8DB5-9941A4B2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5785-900F-450D-96B3-60A31F3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C142-AAEA-4B80-9C5F-E546E0FA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585E-91F9-47AD-BDB0-FC9EC6F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40F2-7BC0-4EF0-B29F-1F0807A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11F0-79CB-4447-917B-AB34E9F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10B-5218-4B31-8947-18D06C44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838D-E706-4E13-97DF-F598DACB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4002-47DB-4A63-B16F-7E71246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CE2D-94BD-460C-8F11-5A09D55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3255-8785-403A-A816-DF3D6BD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54BD-1885-45BD-9A91-80836D6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EA98-B484-42E1-8972-5CEEBEA2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A924-E77E-4A6B-82C5-0ACE8A64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3002-5AF5-49DD-8F1F-12D1BCC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2216-D5C5-4C96-BB4A-9E565383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69E9-4249-44B0-BCEB-C364E88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BD0-D4B0-46D5-BB0D-C261BBB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24E7-6AB9-47FB-BAA7-ACFB7D8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3B57-9C70-499C-BC87-7A524DE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E110-4960-4560-8939-4D78474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CA6D-215F-48E2-B95C-851D532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699D-D7E2-433B-9A46-40077CF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E3FE-53F9-48C8-9CFC-2AF015C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E7D0-C6BE-4891-8359-39C9BB5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F7C4-5FD0-4513-8C5F-8420331C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DB2F-B03C-4BC4-A828-0769991A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8FA1-299B-4F77-A3E2-6F904D9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C08-9354-407B-A8F8-3755262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F7E4-1A50-4C0F-9FF8-D088B37C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3FC3-6A33-4E69-AEDE-D23D3F8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29A5-9989-491D-93B8-D538440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3A13-5BBD-4957-A708-1A702C31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35FD-697C-4C70-9CE4-F73AFA19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DB50-2EDD-4A99-A4FE-EA9984B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D677-65BA-4E2A-B6DF-9F8B208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60FE-3069-440C-8BD7-592F3C8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4E5E-C3A0-4CDF-A3EB-0FF0AE7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34EF-CC8A-4258-B78E-EE95018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D20-0C4E-4C88-B057-9722A01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7B32-4210-4A97-8FE3-D589F212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EFC3-C24A-4EE5-AFEC-F2CCD6BE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DA642-6F35-4DCF-8C9C-2A54DCC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9257-4574-4F15-AFE6-FEB75A8C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DFC5-F508-44A7-8773-9E58126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CD1A-AA7E-494F-B070-0C0703DD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2EB2-BC20-4846-A4CE-070AAB5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920C-2A50-40FA-B370-8954429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989E-8047-4CCC-8722-3DB6B47F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9ABB-D6C5-437C-8208-DA1D6A7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F57-4BFB-4F1C-8170-A30EFAB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B493-D77A-4BE5-9DF6-F41FC0E8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5FE4-334B-4420-82BA-7C918EE9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2E5A-FD7F-44E7-990E-361A1BF0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9F71-8FA5-41E2-8D0B-376402F6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69E4-E061-40E5-A48E-9B0C6B6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B685-33B7-46DA-B026-DDDEA475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9C418-182E-46D1-8499-CE35012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F5D8-220E-4A5A-9FA9-80710FC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2C12-7201-4FB3-9155-9982E63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D1529-6994-44EA-8E2B-1D7F6DC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98C-DCF6-420C-BA38-CD9F139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64D8-E67F-4BEF-BDD0-37BE1C3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3F48-0498-49AA-8F8A-8E9C2FF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0055-7492-42F5-AE2D-BEB5FB8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A3EB-2DE8-4CBF-B07F-D450A16C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4AC7-68B1-48F0-A72A-3FB25F97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59D08-84D1-4791-A860-C6032FAD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24FA6-DF1F-420F-BBDC-4AD05B32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1D2B-9FD3-4E3B-B903-4EA8F35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AE13-0984-4EC9-A6F4-6726E266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69F2-D7EC-4E70-BF69-D37449B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617-3204-44C2-8D5B-5CAA6DF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FD3F-F27B-40BF-B8EB-20C770B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A0AE1-3A08-48AA-BB86-B3E76B8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ED5D-6C16-45D6-B972-6561C37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1D89-5306-49C6-BCCC-F145DDDC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3CA08-BABC-4A07-98BE-BB3415C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CF5C7-5857-4552-B10C-AA51A1BA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A8DC-8B46-4387-A972-98F74805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6E98D-4886-449F-B04A-8B045D1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01D37-ABD3-4DF8-A4F6-76FF005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FB55F-ED42-48FE-A8B7-1BF2794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4B9-9EE5-435C-9B2E-7383DDD5C38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51A-82E4-4B59-A4CF-8690A92BCC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CC84-E346-4036-AE1B-48DB7D613F1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60C-6C31-41F4-BEF3-2862D204B4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4E2D-DA39-490B-906A-87E06E1C4B2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363C-82FB-46F0-97A9-6580291846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A5F-D69B-4C53-A8C7-3D5E20192A6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0ACD-F48A-4AD8-AEF8-8E0DB6A21A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41D-55B8-4631-BEC2-C3E93A6F4A3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E733-AD69-4538-912F-DE695D6592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C65-5022-4650-A64A-3D0BABFA5B4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DF97-C085-4E3A-95D4-60AF42DE19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B703-E37A-4A5F-B3C1-8F11BF74D6A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4FC-D2B1-486C-8B4C-062CCF9487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85B-8E37-4690-8B0C-9C97EC78211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682D-608C-4916-A1A2-2A2600E24A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4137-3807-4770-A000-474CEC9C44F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BCD4-7557-40C3-8005-767BA5DE2A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A279-BF8B-4266-8C64-72B18C35963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547-53DB-4C2A-B3E5-801464AB65C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CA5-354D-44C9-AF4A-BA668BAA18D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D432-AE35-46B2-B5EC-ECDD4173FF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3147-E580-41FC-915C-B1A90EFF6B2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D66-4CA8-496E-9A53-8342BBEE91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B9D-3FF9-430E-86E2-DCC385EC057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362A-C18D-4EB3-AF2F-7E17D3C6601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BF0-46D4-413A-A034-3D73A40201B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9A9-2DC6-415B-949B-84CDF1CC5FB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4FD-51C6-46D2-990A-20B8CE6DF7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DCE-A996-491C-959D-1B9BE8F6BDA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5FF-A3E5-49E5-8C62-D0AF4B892CD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F5C1-B4D6-4CBA-A1D3-172928A8C05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9CFC-37F1-4484-B9E5-CBBAA5323F3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4C9-14AA-4C6A-9687-E63B992927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ncpcr.gov.in/user_complaints.php" TargetMode="External"/><Relationship Id="rId2" Type="http://schemas.openxmlformats.org/officeDocument/2006/relationships/hyperlink" Target="http://www.ncpcr.gov.in/user_complaints.php" TargetMode="External"/><Relationship Id="rId3" Type="http://schemas.openxmlformats.org/officeDocument/2006/relationships/hyperlink" Target="http://www.ncpcr.gov.in/user_complaints.php" TargetMode="External"/><Relationship Id="rId4" Type="http://schemas.openxmlformats.org/officeDocument/2006/relationships/hyperlink" Target="http://www.ncpcr.gov.in/user_complaints.php" TargetMode="External"/><Relationship Id="rId5" Type="http://schemas.openxmlformats.org/officeDocument/2006/relationships/hyperlink" Target="http://www.ncpcr.gov/" TargetMode="External"/><Relationship Id="rId6" Type="http://schemas.openxmlformats.org/officeDocument/2006/relationships/hyperlink" Target="http://www.ncpcr.gov/" TargetMode="External"/><Relationship Id="rId7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5" descr=""/>
          <p:cNvPicPr/>
          <p:nvPr/>
        </p:nvPicPr>
        <p:blipFill>
          <a:blip r:embed="rId2"/>
          <a:stretch/>
        </p:blipFill>
        <p:spPr>
          <a:xfrm>
            <a:off x="4724280" y="-22860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தனியாள்</a:t>
            </a:r>
            <a:r>
              <a:rPr b="1" lang="ta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</a:t>
            </a:r>
            <a:r>
              <a:rPr b="1" lang="en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–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சமூக</a:t>
            </a:r>
            <a:r>
              <a:rPr b="1" lang="en-IN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த்திற்குரிய</a:t>
            </a:r>
            <a:r>
              <a:rPr b="1" lang="ta-IN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பண்புகளை வளர்த்தலும் பாதுகாப்பான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, </a:t>
            </a:r>
            <a:r>
              <a:rPr b="1" lang="en-US" sz="3600" spc="-1" strike="noStrike">
                <a:solidFill>
                  <a:srgbClr val="238693"/>
                </a:solidFill>
                <a:latin typeface="Arial Unicode MS"/>
                <a:cs typeface="Arial Unicode MS"/>
              </a:rPr>
              <a:t>ஆரோக்கியமான பள்ளிச் சூழலை உருவாக்குதலும்</a:t>
            </a:r>
            <a:br>
              <a:rPr sz="3600"/>
            </a:br>
            <a:r>
              <a:rPr b="1" lang="en-US" sz="3600" spc="-1" strike="noStrike">
                <a:solidFill>
                  <a:srgbClr val="238693"/>
                </a:solidFill>
                <a:latin typeface="Arial Unicode MS"/>
                <a:ea typeface="Arial Unicode MS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தொடக்கநிலை ஆசிரியர்கள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437920" y="35064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ன் தொழிற்கல்வி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511200" y="1143000"/>
            <a:ext cx="8632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பொழு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வகுப்பு முதல் முன் தொழிற்கல்விக்கு முக்கியத்துவம் அளிக்கப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களில் சில ஆக்கப்பூர்வமான செயல்பாடுகளை அடையாளம் கண்டு கணித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ியல் மற்றும் பிறபாடங்களோடு தொடர்புபடுத்தி ஒருங்கிணைத்து கற்றுத்தர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ாரணம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லாற்றுப் பாடத்தில் அருங்காட்சியகம் மற்றும் வரலாற்றுச் சிறப்புமிக்க பல்வேறு இடங்களை உதாரணங்களுடன் கற்பிக்கும்பொழு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பயணம் மற்றும் சுற்றுல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Tourism)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ஒரு தொழிற்கல்வி பிரிவு எ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ை வலியுறுத்த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4EF2-EC4F-476C-AA2C-0483F679602C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DC4B-DC6C-49D4-A0A5-FB0896D1F606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9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ற்போ</a:t>
            </a:r>
            <a:r>
              <a:rPr b="1" lang="en-IN" sz="29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ரின் தேவைகளைப்</a:t>
            </a:r>
            <a:r>
              <a:rPr b="1" lang="ta-IN" sz="29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புரிந்துக்கொள்ளுதல்</a:t>
            </a:r>
            <a:br>
              <a:rPr sz="2900"/>
            </a:br>
            <a:r>
              <a:rPr b="1" lang="en-US" sz="29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456840" y="4568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தொடக்கநிலை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டும்பம் மற்றும் விளையாட்டுப் பள்ளிகளிலிருந்து மாணவர்கள் முறையான பள்ளிக்கு மாற்றம் அடை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யில் உள்ள அனைவரிடமும் பொருத்தப்பாட்டை ஏற்படுத்து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மாணவனின் கற்றல் முன்னேற்றத்தில் தனிக் கவனம் எடுக்கச் செய்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மாணவ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ியர்களும் தனித்தன்மை வாய்ந்தவர்கள் என்பதைப் புரிந்து கொண்டு அவர்தம் உட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ம் தன் உணர்வு போன்றவற்றில் விழிப்புணர்வை வளர்த்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093-49C0-46E0-A4A6-D72925AEB35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97FF-0F35-44F6-ACAD-8EE2E05D47B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15C-CD28-4AA1-A82C-15F306A8239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2242-66F6-428A-9A00-30069D1EF24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37720" y="228240"/>
            <a:ext cx="800100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காதார உணவுகளை உட்கொள்ளு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ன் பயன்படுத்தும் பொருள்களைச் சுத்தமாகவும் ஒழுங்கமைத்தும் வைத்துக்கொள்ளு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ையே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திப்பு மற்றும் தன் சாயல்களை வளர்த்தல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ரோக்கியமான ஒப்பார் குழு உறவை ஏற்படுத்து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 உகந்த சமூகத்திறன்களை வளர்த்து இணக்கமான சமூக உறவை வளர்த்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ானது பல்வேறு வேறுபாடுகளை உள்ளடக்கியது என புரியவை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ாத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ன பாகுபாடின்றி அனைவரிடமும் இணக்கமாகப் பழகும் முறையை வலுப்பெற செய்து வளர்த்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7848720" y="640080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C96-D45A-4F7F-8A79-CC5A0484FBD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BF7-C549-43DB-8239-7433940F0D29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914040" y="7632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ன் ஓர் உறுப்பினர் என்ற வகையில் குழு உணர்வு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ச்சினைகளைத் தீர்த்தல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டிவெடுக்கும் திறன் போன்ற பண்புகளை வளர்த்தல்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ப்போராட்டம் உண்டாக்கும் நபர்களையும் சூழ்நிலைகளையும் கண்டறிய கற்றுக் கொள்ளுதல்</a:t>
            </a:r>
            <a:r>
              <a:rPr b="1" lang="en-IN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யாகச் செயல்படும் திறனையும் குழுவில் கூட்டுணர்வோடு இணைந்து செயல்படும் திறனையும் வளர்த்தல்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ற்றலில் மேம்பாடடைய நேரத்தைப்  பயனுள்ளதாக நிர்வகிக்கும் திறனை வளர்த்தல்</a:t>
            </a:r>
            <a:r>
              <a:rPr b="1" lang="en-IN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ுடைமையாதல் பண்பை வளர்த்து</a:t>
            </a:r>
            <a:r>
              <a:rPr b="1" lang="en-IN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ாட்டி ஏற்றுக்கொள்ளுதல்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ையே திறன்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ம்பிக்கை தொடர்பான தகவல் பரிமாற்றத்தை ஏற்படுத்தி கற்றல் விருப்பத்தைத் தெரிவு செய்து எதிர்கால கற்றல் இலக்கை நிர்ணயிக்கச் செய்தல்</a:t>
            </a:r>
            <a:r>
              <a:rPr b="1" lang="en-IN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ஆரோக்கியமான பள்ளி மற்றும் வகுப்பறைச் சூழலை உருவாக்குவதில் ஆசிரியருக்குத் தேவையான திறன்களும் பண்புகளும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6840" y="1447920"/>
            <a:ext cx="8534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ுக்கொருவரிடையே நல்லுறவு ஏற்ப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ை மேம்படுத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மற்றவரைப் புரிந்து கொள்ளுதல் மற்றும் அக்கறையுடன் இருத்தல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வை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யான பண்புகள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ச் சூழலி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ண்புகள் 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;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ஆகியோ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்களுக்க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ையே பிணைப்பை ஏற்படுத்த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லுப்படுத்துவதில் பெரும்பங்கு வகிக்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82A-9E71-400C-8929-49DBDDC1872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8204-63A6-40FF-9278-13E4D3102187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6858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னது ஆசிரியர் மாணவர்களின்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ல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லவீன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த்திறமைகளை அறிந்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ரிந்து பாரபட்சமின்ற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திப்பி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றது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்கள் தங்களின் பலவீனங்களைக் களைய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ன்களை வலுப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ில் அதிக முயற்சிகளை மேற்கொள்ளவும் ஊக்குவ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 இது உளவியல் ரீதியான பாதுகாப்பான சூழலை அவர்கள் உணரவும் வழிவகு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705-1B75-450E-85D4-DC8E58B70A0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2BF-5025-46EE-A38E-9A11ED13C32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10840" y="304560"/>
            <a:ext cx="8480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</a:t>
            </a:r>
            <a:r>
              <a:rPr b="1" lang="en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க்கறை</a:t>
            </a:r>
            <a:r>
              <a:rPr b="1" lang="en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ுடன் இருக்கத் தேவையானவை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யுடன் இருப்பதற்க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தன்னிடம் மற்றும் பிறரிடமிருந்து வெளிப்படும் உணர்வு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ை நன்கு கவனிப்ப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் மொழி மற்றும் மொழி சாரா நடத்தைகள் மூலம் வெளிப்படுத்தும் உணர்வுகள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ண்ணங்களையும் புரிந்து கொள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வராகவும்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ந்தப் பாகுபா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ார்பும் இல்லாமல் தன்ன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வர்களையும் ஏற்றுக் கொள்ளக் கூடிய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ணியத்துடன் தன்னுடைய வளங்களைப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ருள் மற்றும் அறிவுச் சார்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கிர்ந்து கொள்ளும் திறனுடையவராகவும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ன் வளங்களை மதித்து நடப்ப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மையுடையவரா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ொறுமையுடன் தகவல் தொடர்பு கொள்பவராகவும் இருத்தல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5FE-C776-4A15-AC90-976331C6958C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70A0-6EC6-4774-9E80-8C64C4F6CB4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டையே உணர்தலையும் அக்கறையையும் வளர்க்க உதவும் செயல்பாடுகள்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“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ம்மிடம் பொதுவாக இருப்பவை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511200" y="1219320"/>
            <a:ext cx="8632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வகுப்பில் உள்ள அனைத்து மாணவர்களையும் வட்டமாக நிற்க வைத்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ை கூறச் சொல்ல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க் கூறியவர்கள் அனைவரும் ஒரு குழுவாக இணை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ே போன்ற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, 3, 4, 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எண்களைக் கூறியவர்களும் தனித்தனியான குழுவாக இணை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ிற்க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 – 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ங்கள் அளித்து குழுவினர் கலந்துரையாடித் தங்களுக்குள் காணப்படும் ஐந்து பொதுவான பண்புகளைக் கண்டறி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ொதுவான பண்புகள் அவர்களின் வகு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யைச் சார்ந்ததாக இருக்க வேண்டும் என்பது இல்ல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ங்கள் முடிந்தவுடன் ஒவ்வொரு குழுவும் தங்களை அறிமுகப்படுத்திக் கொண்டு தாங்கள் கண்டறிந்த பொதுவ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்புகளைப் பகிர்ந்து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வ்வாற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நாளும் ஒர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ுழுவினரை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துக்கீடு செய்து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ந்நாள் முழுவதும் பள்ளியில் நடைபெறும் செயல்பாடுகளில் இணைந்து செயலாற்றச் செய்தல்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06F1-CDB8-40E4-8640-3C3A0839570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064D-24A4-40F7-8764-D766CB03C25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057040" y="76320"/>
            <a:ext cx="441972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ம்பகத்தன்மை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762120" y="11127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தன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ாக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ட்டுமின்றி பள்ளிய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ிலும் தங்களைச் சிறப்பாக உணர 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 உறவுமுறை முக்கியமான ஒன்ற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நலனில் உண்மையில் அக்கறை செலுத்துபவர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செயல்பாடுகளில் மட்டுமின்றி வாழ்வின் ஒவ்வொரு நிலையிலும் கவனம் செலுத்துபவராகவும் மரியாதை அளிப்பவர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ை விரும்புபவராகவும் ஓர் ஆசிரியரை மாணவர்கள் உணர்ந்தால் அவர்கள் முழு முயற்ச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டுபாடு மற்றும் உற்சாகத்துடனும் வகுப்பறையில் காணப்படுவ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ுடைய எண்ண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களைப் போலவே பிறரது எண்ணத்திற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களுக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யாகவும் நேர்மையாகவும் மதிப்பளிப்பதே நம்பகத்தன்மையின் அடிப்பட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663E-822F-4173-A131-B0D7429A04C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EEB-34A4-45AD-BE9E-A87223772DD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மீதான உண்மைத்தன்மை மற்றும் ஆர்வம் பின்வரும் வழிகளில் வெளிப்படுத்த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லாம்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510840" y="1294920"/>
            <a:ext cx="8327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பள்ளி வளாகத்திற்குள்ளோ அல்லது வகுப்பறைக்குள்ளோ இன்முகத்துடன் வாழ்த்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ணக்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ுதல்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ிகளின் பெயர்களைக் கொண்டு அழை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ைய நாளை எவ்வாறு உணருகிற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ல்லத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“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ைய தினம் எப்படி உள்ள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 வினாக்களைக் கேட்டு அவர்களிடம் பொறுமையுடன் நின்று கேட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ப்பாக இவ்வினாக்களைப் பொது இடங்களில் பேச வெட்கப்படும் அல்லது கருத்துகளைக் கூற இயலாத மாணவர்களிடம் கேட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நேருக்கு நேர் பார்த்து அவர்கள் அமைதியாக மேற்கொள்ளும் செயல்களைப் பாராட்டுதல்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E1D4-7AB2-4EE9-949F-4CDBEC67FD6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F13D-8CAA-493F-851B-C01E3DEF9736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அறிமுகம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366920" y="750600"/>
            <a:ext cx="7624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அறிவுசார் வளர்ச்சி மற்றும் திறன் அளிப்பதில் ஆசிரியர் ஏதுவாளராக செயல்பட்டு குழந்தையின் முழுமையான வளர்ச்சியை உறுதிபடுத்துவதிலும் முக்கிய பங்காற்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மனித சமூக பண்புகளான தகவல் தொடர்பு திறன் மேம்பட்டிருப்பதால் தனிந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்வி வளர்ச்சியிலும் மேம்பட்ட திறன் பெற்ற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்றாட வாழ்வில் மாணவர்களிடையே உறவின் மதிப்பை மேம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ுடன் ஆரோக்கியமான உறவை வளர்ப்பதற்கும் பயனுள்ள தகவல் தொடர்பு திறன்களை வளர்ப்பது அவசியமா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56C-284A-4B43-AACE-4068145B2AB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AC05-2E35-42CF-ADE4-145D1721EC9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மீதான உண்மைத்தன்மை மற்றும் ஆர்வம் பின்வரும் வழிகளில் வெளிப்படுத்த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லாம்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04920" y="1294920"/>
            <a:ext cx="8534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ேட்கப்பட வேண்டிய சில கேள்வி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னது ஓய்வு நேரத்தில் நீ என்ன செய்வ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ன்னைச் சுய அறிமுகம் செய்ய அழைக்கப்படும்போது உன்னைப்பற்றி நீ என்ன கூறுவ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 என்ன செய்யும் போது மிகவும் மகிழ்ச்சியடைகிறாய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ு உன்னை மிகுந்த வருத்தத்திற்கு உள்ளாக்க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 வளர்ந்து பெரியவனாகும் போது என்ன செய்ய விரும்புகிறாய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828D-DCA5-474C-99DB-DC8BB379B71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0397-D256-422B-9F7C-B4C661D158A7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10840" y="0"/>
            <a:ext cx="84805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வகுப்பறைக்குள் ஒரு காட்சிப் பலகை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096920" y="1152000"/>
            <a:ext cx="77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வாரமும் ஒவ்வொர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ு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னது படைப்புகளைக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ட்சிப் பலகையில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ட்சிப்படுத்தச் செய்யவும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ப்பலகையில் தனிநபர் தன்னைப்பற்றிய தகவல்களை அல்லது படைப்புகளை ஆசிரியரும் சக மாணவர்களும் அறியும் வண்ணம் வெளிப்படுத்தச் செய்ய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ில் புதிதாக எழுதப்பட்ட கவிதைகள் பள்ளியில் அல்லது வீட்டில் நிகழ்ந்த மகிழ்ச்சியான நிகழ்வுகள் போன்றவற்றைக் காட்சிப்படுத்த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9602-2B3F-4512-A2A0-83A0E3A08F0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F65E-581C-4782-B26C-276FE48FA91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295280" y="242640"/>
            <a:ext cx="78487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ெற்றோர் ஆசிரியர் </a:t>
            </a:r>
            <a:r>
              <a:rPr b="0" lang="en-US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ங்கக் </a:t>
            </a:r>
            <a:r>
              <a:rPr b="0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ூட்டம்</a:t>
            </a:r>
            <a:r>
              <a:rPr b="0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TA Meeting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762120" y="14479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்களிடம் மாணவர்களைப் பற்றி நேர்மறையான பின்னூட்டம் வழங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ுடன் அவ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ள் தன்னை முன்னேற்றிக் கொள்ள வேண்டிய இடங்களையும் சேர்த்த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 அவர்கள் தங்களுடைய சக மாணவர்களிடத்திலும் மற்றும் பள்ளியின் அமைச்சுப் பணியாளர்களிடத்திலும் எவ்வாறு நடந்து கொள்கிறார்கள் என்பதையும் கூற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447-5588-4705-9DDF-CA5893A6878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B36-E1DE-431E-A44E-E81F9102666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லந்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ரையாடல்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914400" y="5335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ாளர்களைப் பல குழுக்களாக பிர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ும் முறையே மாணவர்கள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்கள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ாகவும் மற்றும் தலைமையாசிரியர்களாகவும் செயல்படுமா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க்குழுக்களுக்க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ிமிட நேரம் கொடுத்து பெற்றோர் ஆசிரியர் கூட்டத்திற்கு முன் பகிரப்பட வேண்டிய எண்ணங்கள் மற்றும் கருத்துகளை விவாதிக்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ுக்கும் இரண்டு நிமிடங்கள் கொடுத்து தனது எண்ணங்களையும் பிரச்சினைகளையும் விவாத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275-1D21-44E8-8073-9DADE3158EC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555E-28A6-401E-A492-624320FA2AA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டம் உண்மையான ஆர்வம்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அக்கறை மற்றும் ஒருவருக்கொருவர் மரியாதை செலுத்துதல் போன்ற பண்புகளில் விழிப்புணர்வை ஏற்படுத்த உதவும் செயல்பாடு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28240" y="1306080"/>
            <a:ext cx="89154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ை நான்கு குழுக்கள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அ’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‘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’ ‘இ’ ‘ஈ’ எனப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ிர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ன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கலாச்சார பின்னண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மை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…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றுபாடின்ற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குழுவுக்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ெயலை அளி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 தேவைப்படும் ஒரு பாடத்தை இச்செயலுக்காக நீங்கள் தெரிவு செய்ய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 இரண்டு குழுக்களான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ஒரு குழுவ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ற்கு உதவி செய்து வழங்கப்பட்ட செயலை முட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ுத்த குழுவா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ை உற்றுநோக்கச் செய்து பின்னூட்டம் அளிக்க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ப்படி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னால் செயலை முடிப்பதில் வேறு எந்த உதவியும் செய்யக் கூடா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 முடிந்தவுடன் குழ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ன்வருவன சார்ந்த தங்கள் உணர்வுகளைப் பகிர்ந்து கொள்ள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Date Placeholder 3"/>
          <p:cNvSpPr/>
          <p:nvPr/>
        </p:nvSpPr>
        <p:spPr>
          <a:xfrm>
            <a:off x="7772400" y="647712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C51-1EA0-4DB1-B7A2-A742B89FDC7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ooter Placeholder 4"/>
          <p:cNvSpPr/>
          <p:nvPr/>
        </p:nvSpPr>
        <p:spPr>
          <a:xfrm>
            <a:off x="1943280" y="656892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3FC-6833-437B-B6CB-F4763D1C04A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066320" y="-76680"/>
            <a:ext cx="2667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ொடர்ச்சி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.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ச்செயலைச் செய்யும்போது அடுத்த குழுவின் பங்க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ில் அவர்களுக்கு உதவி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ாத பண்புகளைப் பட்டியலிட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ுழ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கிய இரு குழுவினரும் தங்களுக்கு அளிக்கப்பட்ட பணியை மேற்கொண்டபோது உற்றுநோக்கியவற்றையும் தங்களின் உணர்வுகளையும் பகிர்ந்து கொள்ள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வரை ஒருவர் சார்ந்து செயல்படுதலின் முக்கியத்துவத்தைக் குழுவில் விவாதிக்க ஊக்கப்படுத்த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இந்த பண்பை வ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 அல்லது வேறு எந்த இடத்தில் பயன்படுத்துவர் என்பதைப் பட்டியலிடச் செய்ய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18B-D6A9-4D3C-A532-020F2D0C9247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2005-9D04-42E7-9504-F90C25FB1369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்மீதும் பிறர்மீதும் கொண்ட </a:t>
            </a:r>
            <a:br>
              <a:rPr sz="3200"/>
            </a:b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நேர்மறை எண்ணங்கள்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685800" y="1371600"/>
            <a:ext cx="83059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ேர்மறை எண்ணங்களைப் பெற்றிருப்பது மிக முக்கியமான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னைத் தங்களுக்குள்ள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் மாணவர்களுக்கிடையேயும் வளர்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ஒருவருக்கொருவர் நட்புணர்வு பாராட்டி எதிர் காலங்களில் வரும் தடைகளை எதிர்கொள்ளச் செய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க்கும் பிறருக்கும் நல்லவர்களாக நடந்துகொள்வ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ன் தொடங்காற்றலினால் பிறரைக்காட்டிலும் முன்னிலை வகிப்ப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ட்டுணர்வு மனப்பான்மையுடன் இருப்ப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ையும் மகிழ்ச்சியாக எடுத்துக் கொள்வது போன்றவை தன்மீதும் பிறர்மீதும் கொண்ட நேர்மறை எண்ணங்களுள் முக்கியத்துவம் வாய்ந்தவ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EB1-A670-4892-B91B-5F797195997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897-720D-460A-B5F0-DDAAB44883B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10840" y="-76680"/>
            <a:ext cx="832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்னிடமும் பிறரிடமும் </a:t>
            </a:r>
            <a:r>
              <a:rPr b="1" lang="en-US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ொண்ட நேர்மறை எண்ணங்களை</a:t>
            </a:r>
            <a:r>
              <a:rPr b="1" lang="ta-IN" sz="2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ஆசிரியர்களிடமும் மாணவர்களிடமும் வளர்ப்பதற்கான செயல்பாடு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04560" y="685440"/>
            <a:ext cx="8839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   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உங்களின் மற்ற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ோன்றோரின் பல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ேர்மறையான குணங்களைப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ின்வரும் பட்டியலில் எழுதவ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………………………     இ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………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டுத்துக்காட்ட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எனக்கு உதவிகரமாக இருப்பதாக உணர்கிறே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 பொறுமையாக இருப்பதாக உணர்கிறே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 நான் ஆர்வமாக இருப்பதாக உணர்கிறே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த் தன்மையுடன் இருப்பத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ட்பாக இருப்பத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ல்பந்து விளையாடியவுடன் உற்சாகமாக உணர்ந்தனர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B9F7-6E0E-418B-A86B-094ECE2C6BC7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371-EBC2-4E17-A1A2-476A14156881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10840" y="-76680"/>
            <a:ext cx="832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2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511200" y="685440"/>
            <a:ext cx="8632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உங்களின் மற்ற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ோன்றோரின் பல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ேர்மறையான குணங்களைப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ின்வரும் பட்டியலில் எழுதவும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ப்ப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ுக்கும் தன்னைப் பற்றிய ஒரு பண்புப் பட்டியலைப் பெற்ற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ற்றில் தங்களைப் பற்றிய புதிய பண்பைக் கண்டறிந்தால் அதனையும் இணைத்துக் கொள்ள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நபர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ய பண்புப் பட்டியலை வைத்திருப்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ுடன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ய நேர்மறைப் பண்பைக் கண்டறிந்தால் அதனையும் இணைத்துக் கொள்ள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ெல்லாம் எதிர்மறை மனவெழுச்சி தங்களுக்குள் மேலோங்குகிறதோ அப்போது மாணவர்களைத் தங்களைப் பற்றிய பட்டியலைப் பார்க்கச் சொல்ல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ச்சோர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 அழுத்த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ுத்த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ல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.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ே போன்ற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XYZ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் எதிர்மறை மனவெழுச்சி அடையும்பொழுது தங்களைப் பற்றிய பட்டியலைப் பார்க்கச் சொல்ல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DD3-DB3F-4273-9C2C-4157F06D5D36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1E1-1715-4CA6-A3C7-F7E53ADC12F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லைமைப் பண்பு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: </a:t>
            </a:r>
            <a:r>
              <a:rPr b="1" lang="en-US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ுழு விவாதம்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</a:t>
            </a:r>
            <a:br>
              <a:rPr sz="25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0948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குழு அல்லது வகுப்பில் உங்களுக்கேற்ற தலைவர் யார் என நீங்கள் கருதுகிற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ந்த நபரைப் பற்றி சிந்தித்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பார்வையில் ஏன் அவர் தலைவராக இருக்கிறார் என்பதற்கான விளக்கத்தினை ஒரு சில வார்த்தைகளில் குறிப்பி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உடனடி சுற்றுப்புறத்தைச் சார்ந்த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ண்டை அயலா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ன்ன பி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ரையெல்லாம் நீங்கள் தலைவராகக் கருதுகிற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ற்குரிய ஒவ்வொருவரின் பண்புகளைப் பற்றியும் சில வரிகள் எழுத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அல்லது வகுப்பில் குறிப்பிடப்பட்ட அனைத்து தலைமைப் பண்புகளையும் பட்டியலி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ின் கருத்துகளைப் பற்றி வகுப்பிலுள்ள அனைவரிடமும் கலந்துரையாட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2D6-FF01-4C5D-9B72-8556C807C692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ABC-AA58-48F6-8045-E7FF55739215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நோக்கம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83772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நப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பண்புகளைப் பற்றிய புரிதலை ஏற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ிமனித மற்றும் சமூகப் பண்புகளை வெளிப்படுத்துவதன் மூலம் மாணவர்களிடம் அவற்றை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 வழிகாட்டுவதற்குத் தேவையான பண்புகளையும் திறன்களையும்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வராலும் ஏற்றுக் கொள்ளக்கூடி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ம்பிக்கையுடைய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பிறரின் நலனில் அக்கறை கொண்ட சூழல் உடைய பள்ளி மற்றும் வகுப்பறையை உருவாக்க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2FAE-2DC1-464C-B8C8-F0C6A44DEFB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66F-71BA-410E-A279-E0FDEED2332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9200" y="-7668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ஒத்துழைப்பைப் பாராட்டுதலுக்கான ஆசிரியர்</a:t>
            </a:r>
            <a:r>
              <a:rPr b="1" lang="en-US" sz="3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, </a:t>
            </a: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 செயல்பாட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096560" y="1204560"/>
            <a:ext cx="8047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உள்ள மூன்று குழுவிலிருந்து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ோராயம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த் தேர்ந்தெ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க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‘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ஊக்கப்படுத்த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கருப்பொருளில் ஒரு சுவரொட்டிய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யா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‘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ீர் சேமி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ற கருப்பொருள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வரொட்டியைத் தயா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ற்றுநோக்குபவர்க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க்குழுச் செயல்பாட்டினை உற்றுநோக்கச் செய்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ல்பாடுகளைச் செய்து முடித்தபி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னர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ாக இணைந்து செயல்பட்ட அனுபவங்களைய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உணர்வுகளையும் பகிர்ந்துக் கொள்ள செய்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் ஒத்துழைப்பு மற்றும் போட்ட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மனப்பான்மையின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நன்மைகளைப் பற்றியும் பகிர்ந்து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D71-396B-4E63-9FF3-AA8A24BDC7C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666-E97F-4A38-9AF2-54DF1A8F439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14040" y="-62280"/>
            <a:ext cx="8047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ுறையான தகவல் பரிமாற்றத் திறன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1044720" y="457200"/>
            <a:ext cx="8022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ஓர் ஆசிரியருக்கு தகவல் பரிமாற்றத்திறன் நன்றாக இருந்தால் அதிகப்படியான கருத்துகளை பொருளுணர்ந்து ஆர்வத்துடன் வெளிப்படுத்த முடிய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ொழ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ொழிச்சார்பற்ற செயல்கள் உட்பட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ிறந்த கற்றல் சூழல் என்பது ஆசிரியர் கேள்விகளை எழுப்பி அக்கேள்விக்கு கற்போர் எவ்வாறு பதிலை வெளிப்படுத்துகின்றனர் என்ப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ரிவுடனும் பொறுமையுடனும் கவனித்து அதற்கேற்ப பதிலளித்தலைக் குற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நல்ல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கவல் பரிமாற்றத்திறன்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ிப்பவராக  உருவாக்க வேண்ட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9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38F-F979-4A3D-91FB-65006E7FF92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2689-6E25-46B6-A787-E4F04EEC6CD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78168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வனித்தல் மற்றும் பதிலளித்தல்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னித்தல் திறன் என்பது தகவல் தொடர்பில் முக்கிய பங்காற்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ற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வாக மக்கள் தகவல் பரிமாற்றத்திற்கு ஐந்து வகையான துலங்கல் பதிலளிக்கும் திறன்களை தினசரி இடைவினையாற்றலில் பயன்படுத்துகின்றன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தன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EISPU-Evalua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Interpreta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ளக்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Supportive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தர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Probing -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ய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&amp; Understanding –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ரிந்துணர்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ஐவகை துலங்கலை ஒட்டுமொத்தம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டுணரும்போது நம்பகத்தன்மையும் வெளிப்படும் தன்மையும் மேம்படுத்து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்கள் மாணவர்கள் தங்களின் உணர்வுகளை வெளிப்படுத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ரியான தகுந்த முடிவினை எடுக்கவும் நடத்தை மாற்றத்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ட்டமைக்கவும் வாய்ப்புகளை அள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400-CAE1-4768-A270-565116DE5A76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A34-892B-4BA6-86C8-9CAC037D457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றர் நிலையில் தன்னை வைத்துப் பார்த்தல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ைய நிலையில் அல்லது சூழலில் தன்னை  நிலை நிறுத்திப் பார்த்து அவர்களுக்காக வருந்த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உணர்வுகளைப் புரிந்து கொள்வத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ான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ொரு நபரின் நிலைய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ைத்து பார்த்தல் போன்றதாக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மனமுறி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ப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குபாடு போன்ற மனவெழுச்சிகளை வெளிப்படுத்தும்போது ஒருவர் அவர் நிலையிலிருந்து தன்ன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க்க வேண்டும்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்திறன்கள் மாணவர்கள் தாங்களே தங்களின் பிர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களை அடையாளம் கண்டுகொண்டும் அப்பிர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க்கு வருத்தம் அடையாமல் தங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காத்துக் கொள்ளும் விதமாகவும் அமை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077-357E-49EF-9E22-1DAF49CBA6A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669-9B75-49F8-BBF2-CAEB3518A29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096920" y="-7668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ிறர்நிலையில் தன்னை வைத்துப் பார்க்கும் திறனை</a:t>
            </a:r>
            <a:r>
              <a:rPr b="1" lang="en-US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ுரிந்து கொள்வதற்கான செயல்பாடு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6840" y="1152360"/>
            <a:ext cx="85345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ாளர்களை வட்டத்தில் நிற்க செய்ய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பங்கேற்பாளர்களையும் தங்களது காலணிகளை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ழற்றி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ங்கள் பக்கத்தில் வைக்கச் சொல்ல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ழிகாட்டுபவர் கையைத் தட்டிக் கொண்டிருக்கும் வரை பங்கேற்பாளர்க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் </a:t>
            </a: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டர்ந்து வட்டத்தில் சுற்றிக் கொண்டே இருக்க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ை தட்டும் ஓசை நிற்கும்போது பங்கேற்பாளர்கள் தற்போது தங்கள் அருகில் உள்ள காலணிகளை அணியச் சொல்லவ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ன் கை தட்டும் ஓசை கேட்கும் வரை பங்கேற்பாளர்கள் அணிந்துள்ள காலணிகளுடன் வட்டத்தில் சுற்றிக் கொண்டே இருக்க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ற்றி வரும்பேது அவரவர்கள் முதன் முதலில் நின்ற இடம் வரும்போது அணிந்துள்ள காலணிகளுடன் அமரச் சொல்ல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19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டிவில் பங்கேற்பாளர்கள் அடுத்தவரின் காலணியுடன் சுற்றி வந்த அனுபவத்தைக் கூறச் சொல்ல வேண்டும்</a:t>
            </a:r>
            <a:r>
              <a:rPr b="1" lang="en-US" sz="19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6C6-4BFD-4122-9E26-7CA6962B313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BCF-3A88-4179-81D1-4DAD206AF936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ின் அனுபவத்தின் வாயிலான முன்னேற்றம்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1096920" y="2133720"/>
            <a:ext cx="7437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நிலையி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ின் சொற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ரலில் ஏற்றத்தாழ்வு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் அசைவுகள் போன்றவற்றின் மூலமாக வெளிப்படுத்துவது போலவே ஆசிரியர்களும் பதிலளிப்பது மாணவர்களிடம் பிறர் நிலையில் தன்னை வைத்து பார்க்கும் நிலைய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க்க வைத்துக் கொள்ள உதவ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599-29CF-4143-9661-12AAE5884923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9EB-A164-46F1-92ED-3E369DD81BF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Title 1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169560" cy="6954840"/>
          </a:xfrm>
          <a:prstGeom prst="rect">
            <a:avLst/>
          </a:prstGeom>
          <a:ln w="0">
            <a:noFill/>
          </a:ln>
        </p:spPr>
      </p:pic>
      <p:sp>
        <p:nvSpPr>
          <p:cNvPr id="1353" name="Date Placeholder 4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F2FF-89AE-4D04-91C6-0A12634F2FBD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Slide Number Placeholder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A9E6-21E5-45AB-B866-671202E84EF8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6" name="Picture 7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267440" cy="41907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357" name="Picture 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41907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3"/>
          <p:cNvSpPr/>
          <p:nvPr/>
        </p:nvSpPr>
        <p:spPr>
          <a:xfrm>
            <a:off x="1333440" y="971640"/>
            <a:ext cx="6400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றுபாடுகளை களைவது பிரச்சினை கிடையாது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றாக எவ்வாறு வேறுபாடுகளை முழுமையாக ஒருங்கிணைப்பது என்பது தான் பிரச்சினை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– </a:t>
            </a:r>
            <a:r>
              <a:rPr b="1" lang="ta-IN" sz="28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இரவீந்தர்நாத் தாகூர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Date Placeholder 4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5539-022F-496B-9BB7-36C8C0588588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CA6-2D88-4C8C-A519-9196D0C756C7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Cloud Callout 8"/>
          <p:cNvSpPr/>
          <p:nvPr/>
        </p:nvSpPr>
        <p:spPr>
          <a:xfrm>
            <a:off x="152280" y="150840"/>
            <a:ext cx="8763120" cy="6154560"/>
          </a:xfrm>
          <a:prstGeom prst="cloudCallout">
            <a:avLst>
              <a:gd name="adj1" fmla="val -20833"/>
              <a:gd name="adj2" fmla="val 62500"/>
            </a:avLst>
          </a:prstGeom>
          <a:noFill/>
          <a:ln cap="rnd"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Picture 10" descr=""/>
          <p:cNvPicPr/>
          <p:nvPr/>
        </p:nvPicPr>
        <p:blipFill>
          <a:blip r:embed="rId1"/>
          <a:stretch/>
        </p:blipFill>
        <p:spPr>
          <a:xfrm>
            <a:off x="5456160" y="3687840"/>
            <a:ext cx="242568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1480" cy="10368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0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 வகுப்பறையில்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ின் பங்க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1142640" y="152388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துமையான கற்றல் கற்பித்தல் முற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ற்போதுள்ள வளங்கள் ஆகியவற்றை அடையாளம் காணவ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ங்கேற்பு மற்றும் கற்றலில் உள்ள தடைகளை ஆய்வு செய்யவேண்டுமெனவும் கூறுகிறது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ள்ளடக்கிய மற்றும் திறம்படக் கற்பித்தல் அனைத்துக் குழந்தைகளுக்கும் நல்லது என்று ஆசிரியர்கள் நினைவில் கொள்ள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9C2-9FF0-49EF-95EB-464345E041DB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8FA-AC99-4499-B54B-6BA1D02B7F3B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004240" cy="8384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ிலங்குகள் பயிலகம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கதை ஆய்வு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914040" y="10663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ன்னொரு காலத்தில்</a:t>
            </a:r>
            <a:r>
              <a:rPr b="1" lang="en-GB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ிலங்குகளும்</a:t>
            </a:r>
            <a:r>
              <a:rPr b="1" lang="en-GB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க்களும் ஒன்றுகூடி புதிய உலகத்தின் பிரச்சனைகளுக்குத் தீர்வு காண்பதற்காக ஒரு பள்ளியைத் தொடங்கலா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என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டிவு செய்கிற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ஓட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ஏற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ீந்துதல்</a:t>
            </a:r>
            <a:r>
              <a:rPr b="1" lang="en-U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றத்தல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ஆகிய செயல்பாடுகளுடைய </a:t>
            </a:r>
            <a:r>
              <a:rPr b="1" lang="ta-IN" sz="2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லைத்திட்ட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ஒன்றை வகுத்துக் கொண்ட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ைத்திட்டதின் எல்லாச்  செயல்பாடுகளையும் எளிமையாகச்  செயல்படுத்துவதற்கு அனைத்து விலங்குகளும் அனைத்துப் பாடங்களையும் கற்றுக்கொள்கிறார்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1" name="Date Placeholder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3480-EACF-422F-9E13-EACE3CC7A30A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815-470A-4316-A473-D3236C44F5A0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பள்ளிக் கல்வி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510840" y="1599840"/>
            <a:ext cx="84042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ன் ஒருங்கிணைந்த ஆளுமையை வளர்த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ளர்ச்சி வீதத்தைத் துரிதப்படுத்தும் காரணியாகச் செயல்பட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ப்பான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ழுமிய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றமைகளை வளர்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ை எதிர்கால வாழ்க்கைக்குத் தயார் செய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19A-DBF4-4CD4-A3FB-FC5284C749F5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1D1-6F73-4786-B8FA-EE71F5A0897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867800" cy="9144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9f835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ணித்தாள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ருத்துக்களை பகிர்ந்து கொள்</a:t>
            </a:r>
            <a:br>
              <a:rPr sz="1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1225440" y="1895400"/>
            <a:ext cx="761688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லங்குகளும்  ஏன் ஒரே பாடத்த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ட்டத்தி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ை எடுத்துக்கொண்டன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ர்கள் அனைவரும் பயன்பெற்றார்கள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ல்லாப்பாடங்களிலும் சராசரி செயல்பாடுகள் பள்ளியில் கொடுக்கப்பட்டுள்ளன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ு எல்லா விலங்குகளுக்கும் பொருந்தும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1080" indent="-279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6" name="Date Placeholder 2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00E6-4D3E-40D7-B4D1-383724E8A824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ooter Placeholder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89CE-9E4C-44DE-BF82-BA7E86C0C7DF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7160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entury Gothic"/>
                <a:cs typeface="Latha"/>
              </a:rPr>
              <a:t>கலந்துரையாடல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1066320" y="1218960"/>
            <a:ext cx="786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அனைவரும் முறைசார் கல்வியில் மட்டும் பயில வேண்டுமென்பதற்கான காரணங்கள் எதுவும் உண்ட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மாணவர்களையும் குழுக் கற்பித்தலில் ஈடுபடுத்துவது உள்ளடங்கிய சமூகத்தை உருவாக்குமா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Date Placeholder 2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9F4-30BE-46B0-8BB3-BD9983D7DF60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F46D-8B82-4596-AC5B-680D689A848E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1480" cy="1371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9f8351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்களிடம் காணப்பட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ண்டிய திறன்கள்</a:t>
            </a:r>
            <a:br>
              <a:rPr sz="2800"/>
            </a:br>
            <a:r>
              <a:rPr b="1" lang="ta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ன்முகத்தன்மையை ஏற்றுக்கொள்ளுதல் மற்றும் கையாளுதல்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914040" y="1728720"/>
            <a:ext cx="80010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லம் மற்றும் பலவீனங்க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ள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குதி மற்றும் ஆர்வம் ஆகியவற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றில்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குறைபாடுகள் உள்ள குழந்தைகளிடம் வேற்றுமையைக் கண்டறியக் கூடிய கூர்ந்து அறியும் திறன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ற்றுமைகளைப் பாராட்டுதலுக்கு அதனை வளமாக்க கருதுதல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ற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பித்தலில் மாணவர்களின் பல்வேறு சூழலைய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ையும் பயன்படுத்த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ெவ்வேறு கற்றல் தேவைகளை மனதில் கொண்டு செயல்படுத்த பரிவு காட்ட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றல் பாங்கினை மனதில் கொண்டு அதற்கேற்றவாறு பதிலளித்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A41-87E1-4412-BA03-DBC442DE14B6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99F-6BFB-4726-B3C6-6D91B9A76DEE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Title 1" descr=""/>
          <p:cNvPicPr/>
          <p:nvPr/>
        </p:nvPicPr>
        <p:blipFill>
          <a:blip r:embed="rId1"/>
          <a:stretch/>
        </p:blipFill>
        <p:spPr>
          <a:xfrm>
            <a:off x="1139760" y="268200"/>
            <a:ext cx="7809120" cy="116388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 txBox="1"/>
          <p:nvPr/>
        </p:nvSpPr>
        <p:spPr>
          <a:xfrm>
            <a:off x="990720" y="1599840"/>
            <a:ext cx="7943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ங்கள் கற்பித்தல் நிகழ்வில் பன்முகத்தன்மையை அறிமுகப்படுத்தும்போது இந்த திறன்களில் ஏதாவது ஒன்றைப் பயன்படுத்தி இருக்கிறீர்களா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ங்களுடைய வகுப்பறையில் கற்பவர்கள் அனைவரும் சமமாக பங்குபெறுவதற்கு ஊக்குவிக்க என்ன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திரியான கற்பித்தல் உத்திகளைப் பயன்படுத்து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றீ</a:t>
            </a:r>
            <a:r>
              <a:rPr b="1" lang="ta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ர்கள்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A207-1293-4202-8275-A3C4CB0982D1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180D-C444-4787-81FA-DBAACB71A24F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867800" cy="12952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ள்ளி அமைப்புக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ளில் </a:t>
            </a:r>
            <a:br>
              <a:rPr sz="3600"/>
            </a:b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 கல்வி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838080" y="15235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ந்தைக்குப் பொருந்துமாற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ஏற்றவாறு அமைப்பை மாற்றுதல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ந்தைகள் அனைவரும் </a:t>
            </a:r>
            <a:r>
              <a:rPr b="1" lang="en-GB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வருக்கொருவர்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றுபட்டவர்கள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னைத்துக் குழந்தைகளும் கல்வி கற்க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வேண்டு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ெவ்வேறு திறன்கள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ன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ளவ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யது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ின்னணி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ாலினம்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06F-A862-4E96-91E5-4DD1E1F7D6E1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A18B-1615-4058-9D11-999B0BEBDD8A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08080" y="122040"/>
            <a:ext cx="7789680" cy="14778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entury Gothic"/>
                <a:cs typeface="Latha"/>
              </a:rPr>
              <a:t>உள்ளடக்கிய கல்வி மற்றும் மாற்றுத்திறனாளிகள் உரிமைச் சட்டம்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016 (Right to persons with Disabilities 2016 (RPWD)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09120" y="1600200"/>
            <a:ext cx="832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lnSpc>
                <a:spcPct val="150000"/>
              </a:lnSpc>
              <a:spcBef>
                <a:spcPts val="1800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ாற்றுத் திறனாளிகள் உரிமைச் சட்டம்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2016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க்கிய கல்வியை ஊக்குவிக்கிறது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ிறனுடைய மற்றும் மாற்றுத் திறனுடைய மாணவர்கள் அனைவரும் ஒரு சேர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ற்பதற்கு ஏதுவான கல்வி அமைப்பு இருக்க வேண்டும்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a-IN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ேலும் அந்த கல்வி அமைப்பானது வெவ்வேறு மாணவர்களின் திறன்களுக்கேற்ப தேவைகளை புரிந்த கொண்டு கற்றல் கற்பித்தல் செயல்பாடுகளை அமைக்க வேண்டுமென இச்சட்டம் வலியுறுத்துகிறது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262800" algn="just">
              <a:lnSpc>
                <a:spcPct val="100000"/>
              </a:lnSpc>
              <a:spcBef>
                <a:spcPts val="1800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26280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323-F58C-4B5D-BABE-CD129A41D4A4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4BB6-49EF-40DD-ABF5-A922E05A1A6D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12400" y="228240"/>
            <a:ext cx="749772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7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ங்கிய கல்வியை மேம்படுத்துதலும் பல்வகை பாடங்களை இணைத்துக் கற்பித்தலும் 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1066320" y="1600200"/>
            <a:ext cx="786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‘</a:t>
            </a:r>
            <a:r>
              <a:rPr b="1" lang="ta-IN" sz="24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ான் ஒரு மாணவன்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’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இதில் உள்ள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டர்களைப் படித்து நிறைவு செய்க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ு மெதுவாக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ப்பொழுதும் விரைவாகக் கற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ட நூலிருந்து கற்ப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</a:t>
            </a:r>
            <a:r>
              <a:rPr b="1" lang="en-US" sz="1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கற்பத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5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டமிருந்து கற்பத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.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ன் கற்கும் போது எப்போழுதும் மகிழ்ச்சியாக இருக்கிறேன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3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3A13-DB8A-4686-85F1-349A6DAB8A9F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405-9F54-4E02-BB8E-D356579124AC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9072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1066320" y="1219320"/>
            <a:ext cx="786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்சு மொழியைப் பயன்படுத்தும்போது ஏற்படும் இடர்பாடுகளை ஈடு செய்வதற்கு மாற்று தொடர்பு தொழில்நுட்பம் இருக்க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ுவதில் குறைபாடுடைய குழந்தைகளுக்குத் தகவல் தொடர்பு தொழில்நுட்பத்தை பயன்படுத்த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ங்கெல்லாம் பல மொழி பயன்படுத்தப்படுகிறதோ அங்கே பெரும்பான்மையாக முன்னுரிமை வழங்கப்பட்ட மொழியை பயன்படுத்த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0CF-912C-4114-BAE0-84B42642F4D5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78E-0D6B-455C-B47B-63E86BC9EB4F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066320" y="1447920"/>
            <a:ext cx="786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மாணவர்களுக்கும் ப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ெய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 மொழ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றியீட்டு மொழி ஆகியவைப்பற்றி விழிப்புணர்வும்  நுட்ப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ம் உருவாக்கப்பட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க் குறைபாடு உள்ள குழந்தைகளுக்கு பி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ெய்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 நூலைப் படிப்பதற்கு மிகுந்த நேரம் தேவைப்படுகிற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ுதிய சொற்களைப் புரிந்துகொள்வதில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ற்களை வேறுபடுத்துதலில் பல்வேறு பொருள்பட வார்த்தைகளை புரிந்து கொள்வதற்கும் பார்வைக் குறைபாடுடைய மாணவர்களுக்கு ஆசிரியர்களும் அவர்களுடன் பணிபுரிபவர்களும் போதுமான உதவியை அளிக்க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D90-4D13-46D7-B145-BDBAB28B87BC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CCB-E965-4F8B-B2BC-B0E4AED5122A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1066320" y="1447920"/>
            <a:ext cx="786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லக்கணம் பயன்படுத்துவத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றந்த கால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ன்னிடைச்சொ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்வினை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ப்பாட்டுவினை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டையூறு ஏற்படலா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சிரியர்கள் தொடர்களை அமைக்கும்போது எண்ணத்துக்கும் கருத்துக்கும் இடையே இணைப்பை உருவாக்குவத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ொற்றொடர் பயன்படுத்த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எண்ணங்கள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ுரிதல் போன்றவற்றை ஒருங்கிணைப்பதிலும் கவனம் செலுத்த வேண்ட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ாற்றல் குறைபாடுடைய மாணவர்களுக்கு அவர்களுடைய உதவியாளர்களும் ஆசிரியர்களும் வாய்மொழி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ேட்ட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ருத்துக் கூற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ேச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டிக்கும் முறைய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ரளமாக பேசுவது மற்றும் தொடர்ச்சியாக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டித்தலி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ய்தியை பெறு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ஒலி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றிவ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ாழ்க்கையை அறிதல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 </a:t>
            </a:r>
            <a:r>
              <a:rPr b="1" lang="ta-IN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தவி செய்ய வேண்டும்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1FF9-A61F-43DC-9FE2-EC5C1A874C5E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A46A-74D7-4923-9F38-3B0C9A368DF0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பள்ளியும் அதன் உட்கூறுகளும்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0912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ல்வேறு சூழல்களிலிருந்து மாணவர்கள் பள்ளிக்கு வருகின்ற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ம்மாணவர்களுள் 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சமூகத்தில் பின்தங்கியோர்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சிறப்புத் தேவையுடையோர்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சராசரி திறனுடையோர்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திறன் மிக்கவர்கள்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மீத்திறன் வாய்ந்தோர் மற்றும் படைப்பாற்றல் திறனுடையோ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அடங்குவ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ம்மாணவர்கள் பள்ளிப்படிப்பை முடிக்கும் பொழுது தங்களுக்குள் உள்ள வேறுபாடுகளைக் களைந்து கற்றல் விளைவுகளை அடைய வேண்டும் என எதிர்பார்க்கப்பட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க்கல்வியில் விரும்பத்தக்க தனியா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-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பண்புகளை வளர்க்க வேண்டும் என எதிர்பார்க்கப்பட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Date Placeholder 3"/>
          <p:cNvSpPr/>
          <p:nvPr/>
        </p:nvSpPr>
        <p:spPr>
          <a:xfrm>
            <a:off x="7920000" y="631836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9829-A185-4DE8-A0C5-49E42D148CEF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5"/>
          <p:cNvSpPr/>
          <p:nvPr/>
        </p:nvSpPr>
        <p:spPr>
          <a:xfrm>
            <a:off x="1943280" y="640080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E370-C514-4A33-A68B-FACA6441955B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 txBox="1"/>
          <p:nvPr/>
        </p:nvSpPr>
        <p:spPr>
          <a:xfrm>
            <a:off x="609120" y="1752480"/>
            <a:ext cx="832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ன்</a:t>
            </a:r>
            <a:r>
              <a:rPr b="1" lang="en-GB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சொல்லுக்கு மாற்றாக வேறொரு சொல்லைப் புரிந்துகொள்ளலாம்</a:t>
            </a:r>
            <a:r>
              <a:rPr b="1" lang="en-US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னை கவனத்தில் கொள்ள வேண்டும்</a:t>
            </a:r>
            <a:r>
              <a:rPr b="1" lang="ta-IN" sz="2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ல குழந்தைகளுக்கு எண்ணங்களை ஒருங்கிணைப்ப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ருப்புதல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ற்களைக் கூறுவ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்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ையாகக்  கதை கூறுதலிலும் கை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 கண்ணை ஒருங்கிணைத்துச் செயல்படுத்துவதிலும்</a:t>
            </a:r>
            <a:r>
              <a:rPr b="1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ுவதிலும் இடர்பாடுகள் இருக்கலாம் என்பதை மனதில் கொள்ள வேண்டும்</a:t>
            </a:r>
            <a:r>
              <a:rPr b="0" lang="en-US" sz="2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909D-732F-4830-8CF7-56D897E4005F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006-EF9B-4211-A916-31F40E703775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ொழி கற்பித்தலில் உள்ளடக்கம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டர்ச்சி…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344240" y="1080"/>
            <a:ext cx="7497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ணிதம் கற்பித்தலில் உள்ளடக்கம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1125360" y="534600"/>
            <a:ext cx="7942320" cy="61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 திறன் குறைபாடுடைய குழந்தைகளுக்கு கற்பிக்கும் ஆசிரியர்களுக்கும் இடம் சார்ந்த கருத்துகள் மற்றும் அவற்றிற்கிடையேயான தொடர்பினைப் புரிந்து கொள்ளவும் முப்பரிமாணங்களை இரு பரிமாணங்களாக மாற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ி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மைப்பதற்கும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தவ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ணித்ததில் பயன்படுத்தப்படும் சிறப்பு குறியீடு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ைக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Symbols) 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ற்க சிரமப்படுகின்ற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ெய்லி முறையில் கணிதம் கற்றுக் கொள்வ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Nemeth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 பிற செயல்களைக்  கற்பதில் சிரம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களைய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ேவையான உதவ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ுரிய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CD6-E960-46EF-90AB-756355473194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ooter Placeholder 4"/>
          <p:cNvSpPr/>
          <p:nvPr/>
        </p:nvSpPr>
        <p:spPr>
          <a:xfrm>
            <a:off x="1943280" y="6553080"/>
            <a:ext cx="57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532-78E4-4B98-8591-8A4F4097A079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67276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ெவித்திறன் குறைபாடு உடைய குழந்தைகளுக்கு ஆசிரியர்கள் மற்றும் பிறரால் கொடுக்கப்படும் உதவிகள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990720" y="1089000"/>
            <a:ext cx="7875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ாற்றலில் குறைந்த மாணவ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ிசைப்படுத்துவதில் சிரமப்பட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ிநிலைகளில் கணக்குகளுக்குத் தீர்வு காண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டமதிப்பு காணல் ஆகியவற்றில் இடர்பாடுகளைக் காண்கின்றன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யற்கணிதம் மற்றும் முழு எண்களில் புலனாகாத கருத்துகளைப் புரிந்து கொள்வத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டிவியலில் பிற வடிவங்களை அறி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சை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ைக் கணக்குகள் புரிந்து கொள்ளல் ஆகியவற்றிலும் சிரமங்களை சந்திக்க வாய்ப்புள்ள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D774-8882-4B4C-8DE3-2605AE3A77CD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A7AD-B9A9-4602-86A1-8E089AE27E4E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14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ூழ்நிலையியல் மற்றும் அறிவியல் கற்பித்தலில் உள்ளடக்கம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609480" y="1066320"/>
            <a:ext cx="8477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திறன் குறைபாடு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ைய  மாணவர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ுக்க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ூடுதலான நேரங்களை ஒது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வித்திறன் குறைபாடு கொண்ட மாணவர்களுக்கு காட்சி கருவிகள் இல்லாமல் நடத்தும் போது புரிந்துகொள்வதில்  கடினம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ற்ப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றிவாற்றல் குறைபாடுடைய குழந்தைகளுக்கு அறிவியலின் கலைச்சொற்களைப் புரிந்து கொள்வ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்க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விரிவான திட்டமிடல்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கவல் தொழில்நுட்பத்தைப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ICT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யன்படுத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தல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ப்பார் குழுக் கற்ற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E19-030B-4528-86AD-2CF1BE2A779D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36A-A443-499A-8161-4ED4033DCD81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21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சமூக அறிவியல் கற்பித்தலில் உள்ளடக்கம்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990720" y="1066680"/>
            <a:ext cx="7943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ர்வைத்திறன் குறைபாடு கொண்ட மாணவர்களுக்குப் புவியியல் சார்ந்த கலைச்சொற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ருத்துகளைக் கற்பிக்கும் போது</a:t>
            </a:r>
            <a:r>
              <a:rPr b="1" lang="en-GB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் கவனமாகத் திட்டமிட வேண்டும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வித்திறன் குறை உள்ளவர்களுக்குக்  கலைச்சொற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ழில்நுட்பக் கருத்துக்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ப்பீட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ரணம் மற்றும் விளைவு உறவுகள்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4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ிசையான சம்பவப் பட்டியல் புரிந்து கொள்ள ஊக்கம் தேவைப்படுகிறது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91F-864D-4490-A5DB-621D9FAC8767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CB1-6E05-4C9D-B247-E31FFBEF9970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1096560" y="837720"/>
            <a:ext cx="79707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பாடத்தின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றுதியி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ொடுக்கப்படும் மதிப்பீ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து கற்பித்தலின் நோக்கங்கள் குழந்தைகளைச்  சென்றடை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ை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அறிய உதவ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பன்முகத் திறன் உள்ள குழுவில் ஓ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ரு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ேள்விக்குப் பல்வேறு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அளிக்க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ஊக்கப்படுத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ளிவானச் செய்திகளைக் கொடுக்கவும் கேள்வி கேட்டபிறகு பதிலளிப்பதற்குத் தேவையான கால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காசம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ொடுக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டப்பொருளை விளக்கிக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 பயன்படுத்திய செயல்பாடுகள் அனைத்தையும் மதிப்பீட்டிலும் பயன்படுத்தலாம் என்ப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் நினைவில் கொள்ள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ீத்திறன் மிக்க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ீத்திறன் குறைந்த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“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ொந்தரவு தருபவ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”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 அடையாளங்காண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ூடா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 algn="just">
              <a:lnSpc>
                <a:spcPct val="11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65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1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E768-6DCF-4155-A924-A6EB33223772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0E8F-286D-45AD-8BEE-FE9110560799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434960" y="198360"/>
            <a:ext cx="749952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ளட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்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ிய</a:t>
            </a:r>
            <a:r>
              <a:rPr b="1" lang="ta-IN" sz="3200" spc="-1" strike="noStrike">
                <a:solidFill>
                  <a:srgbClr val="9f8351"/>
                </a:solidFill>
                <a:latin typeface="Arial Unicode MS"/>
                <a:ea typeface="Arial Unicode MS"/>
              </a:rPr>
              <a:t> </a:t>
            </a:r>
            <a:r>
              <a:rPr b="1" lang="ta-IN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திப்பீடு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தொடர்ச்சி…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761760" y="12193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ேட்ட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Audio)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லங்களுக்க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ில்களுக்கான வழிமுறையில் ஒரு சொல் துலங்கள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திலை ஏற்றுக்கொள்ளு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ுவதில் பிரச்சனையுடை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ெதுவாகப் பேசும் மாணவர்களுக்குப் படங்கள் மற்றும் அஞ்சல்தலை அளவு படங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ையாளங்களைக் காட்டி கற்கச்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ங்களைக்காட்டி அவற்றைப் பற்றிய விவரங்களை மாணவர்களையே கூறச் செய்ய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களைப்</a:t>
            </a:r>
            <a:r>
              <a:rPr b="1" lang="en-GB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ுவதற்கு மின்னட்ட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ொ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்டை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ங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்மைப் பொருள்களைப் பயன்படுத்த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2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ருத்துதல் செயல்பாடு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ிடையறியும் செயல்பாடுகளை உண்மை பொருள்களின் உதவியுடன் செய்து கற்கும் வழிமுறைகளை உருவாக்க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6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8E6-2930-4CB9-8F32-94209D3B10A6}" type="datetime3">
              <a:rPr b="0" lang="en-US" sz="900" spc="-1" strike="noStrike">
                <a:solidFill>
                  <a:srgbClr val="898989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D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BFC-0375-42A0-B2E2-D630A4737E54}" type="slidenum">
              <a:rPr b="0" lang="en-US" sz="20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45D-5539-4BA8-836E-5A2C58865C0D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56B-6C2C-43E3-B63E-F4D3E4464CEF}" type="slidenum">
              <a:rPr b="0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OCSO – Protection Of  Children from Sexual Offences Act – 2012</a:t>
            </a:r>
            <a:br>
              <a:rPr sz="3000"/>
            </a:b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0" lang="ta-IN" sz="3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ாலியல் குற்றங்களிலிருந்து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ta-IN" sz="30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ுழந்தைகளை பாதுகாக்கும் சட்டம்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en-US" sz="3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 2012)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63" name="Picture 9" descr=""/>
          <p:cNvPicPr/>
          <p:nvPr/>
        </p:nvPicPr>
        <p:blipFill>
          <a:blip r:embed="rId1"/>
          <a:stretch/>
        </p:blipFill>
        <p:spPr>
          <a:xfrm>
            <a:off x="4567320" y="1981080"/>
            <a:ext cx="43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0" descr=""/>
          <p:cNvPicPr/>
          <p:nvPr/>
        </p:nvPicPr>
        <p:blipFill>
          <a:blip r:embed="rId2"/>
          <a:stretch/>
        </p:blipFill>
        <p:spPr>
          <a:xfrm>
            <a:off x="4511520" y="4206960"/>
            <a:ext cx="4443480" cy="19987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1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2" descr=""/>
          <p:cNvPicPr/>
          <p:nvPr/>
        </p:nvPicPr>
        <p:blipFill>
          <a:blip r:embed="rId4"/>
          <a:stretch/>
        </p:blipFill>
        <p:spPr>
          <a:xfrm>
            <a:off x="237960" y="1914480"/>
            <a:ext cx="42483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249200" y="318600"/>
            <a:ext cx="7894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8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ாதுகாப்பான மற்றும் ஆரோக்கியமான பள்ளிச்சூழலை உருவாக்குதற்கான தகவல்கள்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096920" y="1447920"/>
            <a:ext cx="7437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ந்துரையாடுவோமா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!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பள்ளி என்றால் என்ன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் பள்ளி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ின் உடல்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மற்றும் மனவெழுச்சி பாதுகாப்பை உறுதிப்படுத்த என்னென்ன நடவடிக்கைகளை எடுத்துள்ளது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தில் உங்களுடைய பங்கு யாது</a:t>
            </a:r>
            <a:r>
              <a:rPr b="0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DBE-2A3B-4F14-8F4E-139ECF715E6E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490-FF22-4868-84C0-9C13FD99C25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ுழந்தைகளுக்கான உதவி எண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098-24x7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இளம் சிறார்களுக்கான உதவி எண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56840" y="128556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ுக்கான உதவி எண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98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தேசிய அளவிலான ஆபத்தில் உள்ள குழந்தைகளுக்கா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4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ணிநேர கட்டணமில்லா அவசர சேவை அலைபேசி எண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் நாட்டில் குழந்தைகளுக்கான உதவி எண் மையங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412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டங்களில் செயல்பட்டு வருகின்ற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ப்ர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016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ுதல் மார்ச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017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ர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.45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டி அழைப்புகள் வந்துள்ள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2017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ஆண்டில் ஏப்ரல் முதல் நவம்பர் வர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78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ட்சத்திற்கும் மேற்பட்ட அழைப்புகள் வந்துள்ள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பத்தில் உள்ள குழந்தைகளுக்கு அலைபேசி வழி அறிவுரை வழங்குவதோடு மட்டுமல்லாமல் நேரடிய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ன்று பாதிப்பிற்குள்ளான குழந்தைகளை மீட்கவும் செய்கிறா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690-A6BF-4730-900F-D4A6DE04BB3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855-E27E-4722-9ED1-1EF9FF1CB17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243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தனியாள் – சமூகம் சார் பண்புகள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066320" y="966600"/>
            <a:ext cx="807732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 மாணவர்களின் வளர்ச்சியில் முக்கிய பங்கு வகிக்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வு மற்றும் மனவெழுச்சி மாணவர்களின் கற்றலில் தாக்கத்தை ஏற்படுத்துகிற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ேர்மறை உணர்வுகளான இன்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கிழ்ச்ச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ற்சாக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ர்வ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ோன்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ை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றல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ம்படுத்துகி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திர்மறை உணர்வுகளான கோ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றா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ின்மை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வலை போன்றவை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கற்ற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ல் இடையூறாக  உள்ளன</a:t>
            </a:r>
            <a:r>
              <a:rPr b="1" lang="en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1EDD-BCF6-47FC-A9A1-6934E6899588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5A1-FDCC-4478-8F07-D006D274D9B9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OCSO (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ாலியல் குற்றங்களிலிருந்து </a:t>
            </a:r>
            <a:br>
              <a:rPr sz="3000"/>
            </a:b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 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குழந்தைகளை பாதுகாக்கும் சட்டம்</a:t>
            </a:r>
            <a:r>
              <a:rPr b="0" lang="en-US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)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685440" y="1295280"/>
            <a:ext cx="84582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POCSO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(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லியல் குற்றங்களிலிருந்து குழந்தைகளை பாதுகாக்கும் சட்ட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,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ின் பெட்ட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e-box)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பது குழந்தைகளுக்கு எதிரான பாலியல் குற்றங்களை எளிதாக அடையாளம் காணவு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சட்டம்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2012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ன் கீழ் குற்றவாளிகளின் மேல் சரியான நேரத்தில் நடவடிக்கை எடுப்பதற்கும் உதவக்கூடிய ஒரு மின் சேவை புகார் மேலாண்மை அமைப்பாகும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ின் பெட்டியின்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1"/>
              </a:rPr>
              <a:t>http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2"/>
              </a:rPr>
              <a:t>://www.ncpcr.gov.in/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3"/>
              </a:rPr>
              <a:t>user_com</a:t>
            </a:r>
            <a:r>
              <a:rPr b="0" lang="en-US" sz="28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4"/>
              </a:rPr>
              <a:t>plaints.php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‘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ணையதள பாதுகாப்பு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’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ற்றி அறிந்து கொள்வதற்கான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http://www.ncpcr.gov.in/showfile.php.lang=1&amp;level=1&amp;&amp;sublinkid=1660&amp;lid= 1661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CSO </a:t>
            </a:r>
            <a:r>
              <a:rPr b="1" lang="ta-IN" sz="18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ட்டத்தைப் பற்றி மாணவர்களுக்கு விழிப்புணர்வு ஏற்படுத்துவதற்காக ஆசிரியர்கள் தெரிந்து கொள்ள வேண்டிய இணையதள முகவரி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0" lang="en-US" sz="24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fb4a18"/>
                </a:solidFill>
                <a:uFillTx/>
                <a:latin typeface="Arial Unicode MS"/>
                <a:ea typeface="Arial Unicode MS"/>
                <a:hlinkClick r:id="rId6"/>
              </a:rPr>
              <a:t>www.ncpcr.gov</a:t>
            </a:r>
            <a:r>
              <a:rPr b="1" lang="en-US" sz="2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in/showfile.php?lang=1&amp;level=1&amp;&amp;sublinkid=1289&amp;lid=1514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Date Placeholder 3"/>
          <p:cNvSpPr/>
          <p:nvPr/>
        </p:nvSpPr>
        <p:spPr>
          <a:xfrm>
            <a:off x="7772400" y="641196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B26-264E-432A-A8DB-33C38AA730E1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ooter Placeholder 4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3842-10E4-4B21-B870-D6C167012C5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781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</a:t>
            </a:r>
            <a:r>
              <a:rPr b="1" lang="en-US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ள் </a:t>
            </a: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ன்புறுத்தப்படுதலைப்</a:t>
            </a:r>
            <a:r>
              <a:rPr b="0" lang="ta-IN" sz="30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30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ற்றிய விழிப்புணர்வை ஏற்படுத்தும் செயல்பாடு</a:t>
            </a:r>
            <a:br>
              <a:rPr sz="3000"/>
            </a:b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457200" y="1066680"/>
            <a:ext cx="868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ோக்க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 செயல்பாடு தேவையற்ற சூழ்நிலை அல்லது சங்கடமான சூழ்நிலைகளில் ஏற்படும் உணர்வுகளை வெளிப்படுத்த மாணவர்களுக்கு விழிப்புணர்வை ஏற்படுத்துகிறத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் இரண்டு சூழ்நிலைகளைக் கொடுத்து அவற்றில் இரகசியம் பாதுகாக்கப்பட வேண்டியவை பற்றி கேட்டறி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 இதுபோன்ற சூழநிலைகளை வடிவமைத்து வழங்கலா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முதல் சூழ்நிலை</a:t>
            </a:r>
            <a:r>
              <a:rPr b="1" lang="en-US" sz="20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னுடைய அப்பா அல்லது அண்ணன் என் அக்கா நீண்ட நாள்களாக கேட்டுக் கொண்டிருந்த பொருளை வாங்கித் தர இருப்பதாகவும் அது அக்காவிற்கு ஆச்சரியமூட்டக்கூடியதாகவும் இருக்க வேண்டும் என என்னிடம் கூறி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தி அக்காவிற்க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ரியாமல் பார்த்துக் கொள்ள வேண்டும் எனவும் கூறி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இரண்டாவது சூழ்நிலை</a:t>
            </a:r>
            <a:r>
              <a:rPr b="1" lang="en-US" sz="20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ன்னுட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0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ம் வகுப்பு படிக்கும் மாணவன் தினமும் என்னுடைய காலைச் சிற்றுண்டியை அவனுக்குத் தரும்படி அச்சுறுத்துகிறா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ேல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ச்செய்திய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்றோரிடமோ அல்லது ஆசிரியரிடமோ கூறக் கூடாது எனவும் கூறுகிறான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4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F58D-1C88-40E3-B807-ECC213C06F53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ooter Placeholder 4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3BF-68C8-4FEE-A9BD-C342F40FEB21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781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ள்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ுன்புறுத்தப்படுதலைப்</a:t>
            </a:r>
            <a:r>
              <a:rPr b="0" lang="ta-IN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ற்றிய விழிப்புணர்வை ஏற்படுத்தும் செயல்பாடு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தொடர்ச்சி…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457200" y="1112760"/>
            <a:ext cx="868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் கொடுக்கப்பட்டுள்ள இரண்டு சூழ்நிலைகளில் எதனை மற்றவரிடம் கலந்துரையாடுவது என்பதைப் பற்றிய தகவல்களை எழுத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ங்கள் ஏன் அந்த சூழ்நிலையைத் தேர்ந்தெடுத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ீர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என்பதற்கான காரணத்தை அனைவரின் முன்னிலையிலும் சத்தம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ற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ுத்ததாக எ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ூழ்நிலையில் இரகசிய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க்க வேண்டும் என்றும் எ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ூழ்நிலையின் உணர்வுகளை அடுத்தவர்களிடம் வெளிப்படுத்த வேண்டும் என்ற முக்கியத்துவத்தை உணர்த்துவதற்கு உதவ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ங்கடம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ை பாதிக்கக்கூடி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ுடன் பகிர்ந்து கொள்ள இயலாத நிகழ்வுகளாக தாங்கள் கருதுபவற்றைக் குறித்து விவாதிக்க அல்லது எழுத மாணவர்களை ஊக்கப்படுத்த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றரின் செயல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டத்தைகளால் ஏற்பட்ட சங்கடத்த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டும்ப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ண்ப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ிடம் பகிர்ந்து கொள்ள முற்பட்ட நிகழ்வைக் குறித்து மாணவர்களை விவாதிக்கச்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9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3E3-860D-46C2-ABC8-3516C3D52CEB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1B33-40E5-478C-ADBB-60B715A40132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295280" y="-30600"/>
            <a:ext cx="78487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மாணவர்கள் தங்களின் உணர்வுகளை வெளிப்படுத்துவ</a:t>
            </a:r>
            <a:r>
              <a:rPr b="1" lang="en-US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ை</a:t>
            </a:r>
            <a:r>
              <a:rPr b="1" lang="ta-IN" sz="2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மேம்பாடு</a:t>
            </a:r>
            <a:r>
              <a:rPr b="1" lang="en-US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்துவதற்கான </a:t>
            </a:r>
            <a:r>
              <a:rPr b="1" lang="ta-IN" sz="26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ெயல்பாடுகள்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380880" y="1143000"/>
            <a:ext cx="8763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துவாக மக்கள் மற்றவர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ும்போது மாணவர்கள் தாங்கள் என்ன நினைக்கிறார்கள் என்பத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ழுதச் சொல்ல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ிடமிருந்து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ெறப்பட்ட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கவல்களை இரண்ட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(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வுகளா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க்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் துன்புற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ளவில் துன்புறுத்த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உடலளவில் துன்புறுத்தும் செயல்கள்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டி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ள்ள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ிள்ளுதல் மற்றும் பாலியல் துன்புறுத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மனதளவில் துன்புறுத்தும் செயல்கள்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: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ழுக்கக்கேடாக நடந்து கொள்ள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த்தமிடுதல் அவமான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ங்கட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யில் தனிமைப்படுத்து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ுக்குள்ளே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ெளியே அடைத்து பூட்டி வை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ண்பர்கள் பேசாமல் ஒதுக்கி வைத்தல் மற்றும் சங்கடமான சில செயல்கள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ட்டாயப்படுத்தி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ய வை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4DA-DB53-4855-9D5E-447426B80360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165-CBA7-49A1-9F47-7F50F754721F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1218960" y="456840"/>
            <a:ext cx="784836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ந்துரையாடல் …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னதளவிலும் பாதிக்கும் செயல்களை விளக்குக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வ்வாறு துன்புறுத்தும்போத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் சோகம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ோபமாகவும் ஒதுக்கப்பட்டதாகவும் சங்கடப்படுவதாகவ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ற்ற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ாகவும்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உணருகிறோ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மாணவரிடம் கேட்க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ரேனும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ங்களை மனத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ளவிலு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ியுள்ளனர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ம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நாமே காயப்படுத்தி உள்ளோம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எவ்வாறு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நண்பரோ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ரு உறவினரோ அல்லது ஆசிரியரோ உம்மை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்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ுன்புறுத்தும் வாய்ப்பு உள்ளதா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்வாறு நடக்குமானால் நீங்கள் அதைப்பற்றி யாரிடம் கூறுவ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ேசுவீர்கள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989-4462-46A7-9A07-FB91B32859B7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B3C-BA93-4E94-89EE-2C4B033D443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1096560" y="380520"/>
            <a:ext cx="7589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ின் பணி…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ில் கற்றலுக்கு ஏதுவான சூழலை ஏற்படுத்துவதில் ஆசிரியர்கள் முக்கிய பங்கு வகிக்கிறா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டல் மற்றும் மனவெழுச்சி ரீதியா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ாதுகாப்பான நன்கு ஒருங்கமைக்கப்பட்ட வகுப்பறைச் சூழலில் மாணவர்கள் மேம்பட்ட கற்றலைப் பெறுகின்றன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ச்சூழலை அனைத்து மாணவர்களுக்க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ஏற்படுத்தித் தர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வ்வொரு மாணவரும் அனைத்து செயல்களையும் சிறப்ப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ெய்வதற்கு ஏற்றவாறு அவருக்கே உரித்தான தனித்திறமைகள் கொண்டு செயல்படுகின்றனர் என்பதை ஆசிரியர்கள் நம்ப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ல்விச் செயல்பாடுகள் மட்டுமல்லாது தனிப்பட்ட மற்றும் சமூக வாழ்க்கையிலும் திறம்பட செயல்படுவதற்கு ஊக்கப்படுத்த முயற்ச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2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DE8-D634-4746-8A45-7D2EF80F0D5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6F89-E6A5-4400-8CE9-4880AE080A2E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11200" y="-106560"/>
            <a:ext cx="863280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ஆசிரியர்கள்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மாணவர்களுக்கான தனி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யாள்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சமூக பண்புகளை</a:t>
            </a:r>
            <a:r>
              <a:rPr b="1" lang="en-US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6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ுரிந்து கொள்ள உதவும் செயல்பாடு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68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6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ிக்க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வை முறையே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உணர்தல் மற்றும் அக்கற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்னையும் பிறரையும் மதி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ஒத்துழைப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ொறுமை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றந்த தகவல் தொடர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லைமைப் பண்பு போன்ற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லைப்புகளைக்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ரும்பலகையில் எழ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 அவற்றுள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தன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்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-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ப்பண்பு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ளின்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பட்டிய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லிருந்து ஏதேனும் ஒன்றைத் தெரிவு செய்து கொள்ளச் சொல்ல வேண்ட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 உறுப்பினர்களை கலந்துரையாடச் செய்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ெரிவு செய்யப்பட்ட பண்பிலிருந்து அவர்கள் புரிந்து கொண்டது என்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ப்பண்பிற்கும் ஆசிரியர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்களுக்கும் இடையேயான தொடர்பு என்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ாக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ாணவராக இப்பண்பை தங்களது அன்றாட வாழ்வில் எந்த அளவிற்கு சிறப்பாக வெளிப்படுத்துகிறீர்கள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/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ில் இப்பண்பு எத்தகைய தாக்கத்தை ஏற்படுத்தும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908-2280-419E-9E59-6CB24FF22B43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ooter Placeholder 4"/>
          <p:cNvSpPr/>
          <p:nvPr/>
        </p:nvSpPr>
        <p:spPr>
          <a:xfrm>
            <a:off x="1943280" y="649296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C18-1294-40F8-B8BA-CD6BF2968F20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6A77-A466-4919-8A23-3E57F73E6328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ooter Placeholder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513" name="Slide Number Placeholder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4E39-A776-46BD-B7B2-5A056DD21708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2590560" y="2514600"/>
            <a:ext cx="392436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நன்றி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5" name="Picture 2" descr=""/>
          <p:cNvPicPr/>
          <p:nvPr/>
        </p:nvPicPr>
        <p:blipFill>
          <a:blip r:embed="rId2"/>
          <a:stretch/>
        </p:blipFill>
        <p:spPr>
          <a:xfrm>
            <a:off x="6400800" y="2835360"/>
            <a:ext cx="1096920" cy="118728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7" descr=""/>
          <p:cNvPicPr/>
          <p:nvPr/>
        </p:nvPicPr>
        <p:blipFill>
          <a:blip r:embed="rId3"/>
          <a:stretch/>
        </p:blipFill>
        <p:spPr>
          <a:xfrm>
            <a:off x="1571760" y="2892600"/>
            <a:ext cx="1096920" cy="118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</a:rPr>
              <a:t>திறன் வாய்ந்த ஆசிரியர்கள்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99036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ிறப்பாக கருத்துகளை எடுத்துரைக்கும் திறன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ந்தைகளிடம் ஒழுக்கத்தைத் தொடர்ந்து பேண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யைத் திறம்பட கையாள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னைத்து வகை கற்போருக்கும் பொருத்தமானவராகத் திகழ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னக்கே உரிய பாணியில் சிறந்த மாணவர்களை  வளர்த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128-0258-4F6B-893F-10E34341839A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5337-81F1-4984-AFAE-F554C65477F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செயல்பாடு    </a:t>
            </a:r>
            <a:br>
              <a:rPr sz="2400"/>
            </a:b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தனி</a:t>
            </a:r>
            <a:r>
              <a:rPr b="1" lang="en-US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யாள் – 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சமூக பண்புகளை தங்களிடையேயும் பிறரிடமும் ஆசிரியர் கண்டறிவதற்கான செயல்பாடு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685800" y="1295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சிரியர்களைக் குழுக்களில் அமரச் சொல்லவும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வில் உள்ள ஒவ்வொருவரும் தங்கள் குடும்ப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அண்டை அயலார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ணிபுரியும் இடம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குப்பறை போன்ற இடங்களில் உள்ள நபர்களில் தங்களுக்கு மிகவும் பிடித்த நபர்களின் பெயர்களைப் பட்டியலிடச் செய்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ந்த நபர்களிடம் காணப்படும் பண்புகளைப் பற்றி கலந்துரையாட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ுதாயத்திற்கு தேவைப்படும் முக்கிய நற்பண்புகளைப் பட்டியலிடுதல்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ச் செயல்பாடுகளில் ஈடுபடும்போது பட்டியலில் உள்ள நற்பண்புகளில் தங்களிடம் எவையெல்லாம் உள்ளன என்பதை உணர்தல்</a:t>
            </a:r>
            <a:r>
              <a:rPr b="1" lang="en-US" sz="22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Date Placeholder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A01-E594-4226-A347-C04AA2009479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DF0-FADB-4C97-A011-E977C5A0590D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31520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பள்ளிகளில் தனி</a:t>
            </a:r>
            <a:r>
              <a:rPr b="1" lang="en-IN" sz="2400" spc="-1" strike="noStrike">
                <a:solidFill>
                  <a:srgbClr val="262626"/>
                </a:solidFill>
                <a:latin typeface="Arial Unicode MS"/>
                <a:cs typeface="Arial Unicode MS"/>
              </a:rPr>
              <a:t>யாள்</a:t>
            </a:r>
            <a:r>
              <a:rPr b="1" lang="ta-IN" sz="2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மற்றும் சமூக பண்புகளை வளர்ப்பதற்கான சாத்தியக் கூறுகள்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80520" y="11426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ள்ளிச் செயல்க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ள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ாலை இறை வழிபாட்டுக்கூட்டம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ஆண்டுவிழா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திருவிழாக்களைக் கொண்டாடுதல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மதிய உணவு திட்ட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ீட்டுத் தோட்ட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ுற்றுச்சூழல் சங்கம்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இளைஞர் சங்கம்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   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ோன்ற தனி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யாள் 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-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சமூக பண்புகள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வாழ்வியல் திறன்களான சுற்றுச்சூழலைப் பாதுகா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ுழுப்பணி செய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ிரச்சனைகளைத் தீர்த்தல்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கூர்சிந்தனைத்திறன்</a:t>
            </a:r>
            <a:r>
              <a:rPr b="1" lang="en-IN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, </a:t>
            </a:r>
            <a:r>
              <a:rPr b="1" lang="ta-IN" sz="20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படைப்பாற்றல் திறன் போன்றவை மேம்படுவதற்கு போதுமான வழிமுறைகளாக அமைகின்றன</a:t>
            </a:r>
            <a:r>
              <a:rPr b="1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Date Placeholder 3"/>
          <p:cNvSpPr/>
          <p:nvPr/>
        </p:nvSpPr>
        <p:spPr>
          <a:xfrm>
            <a:off x="7772400" y="648828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B4E-8B65-4667-9B73-CC8361FA5264}" type="datetime">
              <a:rPr b="0" lang="en-US" sz="9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ooter Placeholder 5"/>
          <p:cNvSpPr/>
          <p:nvPr/>
        </p:nvSpPr>
        <p:spPr>
          <a:xfrm>
            <a:off x="1943280" y="64166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Personal-social qua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3BB-6D5B-4602-9294-0BFE900AAD93}" type="slidenum">
              <a:rPr b="0" lang="en-US" sz="2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Arumbu</cp:lastModifiedBy>
  <dcterms:modified xsi:type="dcterms:W3CDTF">2019-10-03T21:16:16Z</dcterms:modified>
  <cp:revision>211</cp:revision>
  <dc:subject/>
  <dc:title>Developing Personal-social Qualities for Creating a Safe and Healthy School Environment</dc:title>
</cp:coreProperties>
</file>